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613E-F6CC-4E3C-9E49-5DF47E27E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înșelăciune comisă de cineva, de obicei pentru a realiza un profit material de pe urma atingerii drepturilor altuia Si: 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oție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Sumă sustrasă prin înșelăciu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52FE-8DFD-423B-9C47-4F08C927C3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410-4C4A-4DD4-9B6E-938BDF38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C070-CB6F-41E8-880E-BC9AA26CE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180C-CF16-4334-977B-1A8FEFEA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F220-B332-447F-98FE-47E90984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6DB-5F6F-4654-B3C3-75CBA744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997-FF79-4207-8EA7-ED75B6EE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125-56FF-4241-9526-33A7257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E8DEB-530F-4562-B0F2-BB67FED2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D7832-8481-4B74-979D-A9322116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115C-D38A-4CA5-B453-8BDF38D0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6BDE7-C09A-4499-8AA8-2AB967E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35837-1FE6-4302-97FB-3DE60E6F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BFEB7-4E10-4B35-AA01-48F7A71B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6F7C7-1545-42D1-98E8-B19C6B0C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50F91-BB3E-4802-B63B-109FB569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189F1-30FA-4F59-8667-844EE59C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F98D8-CD20-47EA-A899-31317EF4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F0E-3781-4A94-A229-E2A19ECF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F9F10-84C9-45EA-B046-F753E76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5E7F8-E153-4FD8-8015-81BD1B9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4C4A2-1CA1-4C04-B48B-FA4F8B3B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A5883-6FE1-49B0-A8FF-0EBF3F3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859C4-5E73-467D-85A1-DEE4902B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F477C-2C66-4D32-AA88-8E8EB23A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C51B7-3D95-45EF-8D41-9690DC4E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48B58-73DC-47B3-9529-995736E0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1F6EA-6202-40A8-BA5A-67C5A543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1B9F5-C4A6-4379-81AF-DDAEEC1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B12-A552-4031-B60F-0F49E7AC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B02FC-601F-4754-810C-492F8DDF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64113-519A-482F-9AE0-05E6BE0C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05ED3-F98B-4EFB-A9F6-C038D2A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4F406-7D9C-4F38-B66C-C13DB98E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037D0-9152-42CC-9715-9232BDFF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C13CF-2813-44F4-859A-3EA17CC9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EF80B-0A05-4E86-9FAF-B455B377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11A42-5550-4B15-A910-99A8028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8486B-0612-44A1-BF44-C4F5CD0E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3D6F3-2F4B-4E39-900D-9B94AD42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C652-9771-40BC-AFE8-F4A0E26A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F2D3C-78AE-4447-BE0B-6909BF84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1A203-F0D7-42F5-B42A-69464B6A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19837-ACDE-4553-8511-325D11C1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CE9CF-796C-48F2-88D9-40874606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06DA5-6A13-4AAF-9C1C-E7AFB5A5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796AB-88AA-4A60-8947-18BEDC14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4DB6A-0ED2-48C4-A561-241D517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C2609-CF90-4B16-8419-99367630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738DB-9521-432F-94F3-743A37A8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67659-0952-4F7F-B27F-B62E771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D84E-40C0-4259-BDD1-5828130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9BCCC-27AF-43A5-8B9F-0B0BC82A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E2959-9F1C-4FC0-88BA-380E2AF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DA4F3-A482-4DF0-AF5E-C4BC9F27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1D82E-57F6-491C-B144-4FB08780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17BAE-2280-413E-B2A7-D343D0D6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945D6-A279-41CE-AFBA-F48C2007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F32DD-1C55-4C16-A8A2-5DA8CEA2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7D8A2-56FD-4E54-BB59-79E21522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33FAA-0FE5-41F3-B378-AE338C7A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A4E25-2852-4339-AB1D-AA9FB61E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AB18-658A-403A-9DAD-2B07083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0D895-D7BC-4E2E-8613-3ADBA610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BD16B-7EA3-4708-9508-8E965729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C3359-5855-4AFB-835A-2BE3521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753E8-E676-44CD-8590-276CF81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69776-4CD6-4663-82FF-0E57EA10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22A55-D6E3-4483-BF80-4168D8DA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26784-F0C2-4D07-8CC7-F98CF961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4CA1-A94B-40A7-BAD8-4041B41C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BE8C-B540-48FC-804E-471481E4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3100-55DC-4B5E-A7BE-6BF33BA2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E843-0AB3-42AB-8F3B-D0CA67B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C75-5B89-44B6-BF76-6AB1C651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783B-093C-4E12-AE4F-20908FB9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F123-E68B-4A75-A97F-3184E04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E61E-27E0-48BF-B7FC-83ABFA7E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E005-BE32-4E9A-BE88-81EE8A16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ADF8-9D50-4572-933C-FBCF629C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9498-17C6-4FC0-82E2-7C1E03DD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1B89-5B05-4806-BC4A-63D58171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4DF6-2413-43D9-9B37-08921CE8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38F3-A54F-4C58-AC31-15555018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4508-A9C6-4062-AE43-1B130A68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35A-D161-4A97-94B5-5AAADE56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C98C-2DB8-478B-9AC7-E7B87E64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747D-F186-45A7-A94B-3BE00CB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7CF8-17D5-4894-894A-998976F8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D9F8-EEAD-46D1-8787-5712347D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7726-1ED3-48BD-809B-BB9CE390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5737-8C45-4401-8AC7-56F65001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5699-F308-414C-9E46-15993BD3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6F94F-B897-422D-AF9C-06DDBC31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45614-DF8D-41A6-B230-0DA8E197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8C1A-1636-4341-B028-426A6DAE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106-654D-4F46-AC2E-6FB8C1FD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5CA4-E395-431A-8314-9ECB7749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D2FE-598A-4622-B127-DA2228C8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ADC2-ED16-4F50-9036-B653E984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502D0-DB49-420F-95D3-B39E027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9F82-F72D-41D3-9168-5D05E1C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2B26-0E35-41A0-A9BF-D6AAFA57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1F4A-D034-4717-B291-EE4BF533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0106-ADF5-4F89-8DBB-11C89CBB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4294-85F4-4968-AE9D-919A7E7E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DCE2C-2670-43B4-A52C-63DDB30D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F6C-E9AF-48EC-A1A9-34A4C456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F5A63-6E67-47B4-A53A-4C26C33C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E3126-D1E0-4548-A343-3A7125CC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ABC0E-556A-4C75-9523-53C6AECF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9CC3-47FF-4062-80B0-C81322FF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18C94-011C-4B03-84E6-A6C51080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3EEF-7C43-4F8A-98BF-3ABF2CE5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71220-445F-43FD-854B-85E8650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76B40-FF07-4857-8A2E-75F4C28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EB243-9CBB-4CDB-8B02-1FE1E3F8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2F4D-83D6-45E8-AE6D-2B6CA67D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7E4-9B00-46A4-A2C1-FFF64D0B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316FD-0A27-4099-A35C-598A57FD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2F33D-670E-4D26-BF16-213B3739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0A9B7-7AF2-4B51-941B-037C19D4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24190-28FC-4F88-851D-5626894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F57C-F4F2-46A5-8219-925D049C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29AC2-7B2F-484E-BDE0-6E5BED36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5D1DA-EF3C-40CE-8B06-B7E8E48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4353B-3D7A-4C52-ACD8-EDAB073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BB44C-C06F-4FFC-9FE6-13E1BA02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AF7EB-B74A-450F-8F96-0358AD2D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60B-DE71-4653-BAD5-0805024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E0931-1AC3-4AC3-97BB-FE91EBA9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C3E1-E1AF-4436-9CFB-5AEE5575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86578-1B5D-4421-8656-3A80FFD5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1F294-9376-4F85-958F-62721B0B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B4E94-4847-4D2F-AFD6-5D1F850E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03908-D3BF-40C1-B442-19844AF0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922FD-80D7-4BFB-AFAC-DA0ACD3F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5CE23-2449-44A5-8DF6-1742E50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1ABB-93D2-4476-AE0E-634F688B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0D472-42BB-41E4-9304-F76E963B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C40-CA32-4018-8331-A36FCF6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7BAEE-D46B-40B7-8718-21AAA38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FFD23-2BCE-4B78-BA76-279386B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65D4-A2DD-44D8-8025-1C948F0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B6B18-08F4-4534-8A68-D0DFAF1B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3F7AC-0A5B-474C-B60D-A6F83FBF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CB5A2-DE45-4C86-84EC-4D6AC5B0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729F6-C9C4-4E13-B742-28A7DFCA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DB8A-3B39-419D-A588-08DD9355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F632-114D-4005-8178-7A4575B5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BBF86-C14B-47A3-8BAA-AB2060FC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246-B09C-4AE3-A607-FAF29FF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5C12F-D632-46A4-9F2C-E5588602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F401F-58D1-4DC4-8329-D2A3389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9A94A-9ADF-4532-AE7E-A14E41C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9001A-6CA9-4DE3-A38A-A5690D37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9D1DE-DC8E-48DF-A38E-C336BE0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637D0-915A-467A-85F6-6CDEC0D4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4F0A9-7DB3-4302-A473-C7EB1251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4E1BB-252D-4A2A-B546-70AABC44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8B7F2-AAFF-45A6-9DC7-E0DA623A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E2A39-866D-4900-902A-A28A9554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43A6-EFE5-4346-B034-D87CEBD13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orkshop Const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1CFF-22B3-40B3-8D59-B05838028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CFD9-C261-475E-A955-CA400F5C3E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948-3C91-4C65-BAB4-04A994723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2436-48C5-48F3-9DB8-AAE489E328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DA71-D7FE-4C21-8A3E-6BC90419F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F88E-633D-4B4C-8167-A197CA4001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E13E-F4B7-4188-8295-8F9609097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395-7A2D-4C62-8638-DDA84075D7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50A9-98D1-4EE2-BB1C-DD572FA7F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A155-6560-4419-BDE4-A4EA643EB9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CBEE-07CA-499B-A198-805AE44EA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3BD5-542F-4DDF-AD2D-E72ADA811D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4675-4949-4F7E-BFD0-FEFCD84C6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AD78-BFC6-4F39-BEF8-990DA7926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1246-1F4E-4DDD-96C9-3E5FE3523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DDB4-838A-44FA-BF4D-943DE307B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E3A2-AC5A-4FD9-A369-4FE7D6B01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D1ED-DE4C-47A7-A41C-88B5C137C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192B-F618-4AE2-9185-3B47FE3C0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124F-A814-4C01-A5A4-2AB68BC803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14D4-94AA-4075-AD4D-9E0A848C6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0E0A-970E-4837-8C0C-AD55C1EAFB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758B-6E31-49AF-AB39-99DA3886A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21B-081E-430B-80DD-097223A0F7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9A30-960F-438A-92B7-69D111C1A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interregrobg.eu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c.europa.eu/sfc/en/2014/anti-fraud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6896160" y="26028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4151160" y="216000"/>
            <a:ext cx="1606680" cy="1171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610080" y="4267080"/>
            <a:ext cx="1923840" cy="876600"/>
          </a:xfrm>
          <a:prstGeom prst="rect">
            <a:avLst/>
          </a:prstGeom>
          <a:ln w="0">
            <a:noFill/>
          </a:ln>
        </p:spPr>
      </p:pic>
      <p:sp>
        <p:nvSpPr>
          <p:cNvPr id="547" name="Subtitle 2"/>
          <p:cNvSpPr/>
          <p:nvPr/>
        </p:nvSpPr>
        <p:spPr>
          <a:xfrm>
            <a:off x="343080" y="159696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БОРБА С ИЗМА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КОНФЛИКТ НА ИНТЕР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 проектите, реализирани в рамките на Програмата Interreg V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Румъния-Бълг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4 ноември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2021</a:t>
            </a: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годин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н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3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4" descr=""/>
          <p:cNvPicPr/>
          <p:nvPr/>
        </p:nvPicPr>
        <p:blipFill>
          <a:blip r:embed="rId4"/>
          <a:stretch/>
        </p:blipFill>
        <p:spPr>
          <a:xfrm>
            <a:off x="7920000" y="299880"/>
            <a:ext cx="1006560" cy="1140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457200" y="1301760"/>
            <a:ext cx="807732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bg-BG" sz="2800" spc="-1" strike="noStrike" u="sng">
                <a:solidFill>
                  <a:srgbClr val="ff0000"/>
                </a:solidFill>
                <a:uFillTx/>
                <a:latin typeface="Arial Black"/>
              </a:rPr>
              <a:t>Какво е изма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Измама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- всяко умишлено действие или бездействие, свързано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използване или представяне на неверни, неверни или непълни твърдения или доку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638680" y="3224160"/>
            <a:ext cx="3105360" cy="23907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2"/>
          <p:cNvSpPr/>
          <p:nvPr/>
        </p:nvSpPr>
        <p:spPr>
          <a:xfrm>
            <a:off x="422280" y="3429000"/>
            <a:ext cx="49528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разкриване на информация в нарушение на конкретно задължение със същия е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използване на средства за цели, различни от тези, за които са отпуснати</a:t>
            </a:r>
            <a:r>
              <a:rPr b="0" lang="ro-RO" sz="18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0DF2-A27A-4874-B51A-1E42D565D9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45CA-A3E5-43AC-BAAD-EB03E2EC48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95360" y="952560"/>
            <a:ext cx="84582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Член 57 от Финансовия рег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Конфликт на интереси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съществува, ако е компрометирано безпристрастното и обективно упражняване на функциите на финансов участник или други лица, участващи в изпълнението и управлението на бюджета, включително изготвянето на съответните подготвителни актове, както и в одита или контрола на бюджета поради причини, включващи: 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495360" y="3422520"/>
            <a:ext cx="819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Сем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Политически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национален афи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Личен жив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Икономически инте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Други интереси, общи с тези на получ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299880" y="6149880"/>
            <a:ext cx="1341720" cy="611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4118040" y="3581280"/>
            <a:ext cx="4763880" cy="1806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80520" y="979200"/>
            <a:ext cx="8534520" cy="39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Документи за предотвратяване на измами и конфликт на интере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Глава 18.Б. „Мерки за борба с измамите” от Ръководството за изпълнение на проект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кандидати и бенефициенти на Програмата Interreg V-A Ro-Bg, достъпно на уебсайта на програмата (раздел „Публикации на програмата“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, достъпно на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Arial Black"/>
                <a:ea typeface="Arial"/>
                <a:hlinkClick r:id="rId1"/>
              </a:rPr>
              <a:t>https://ec.europa.eu/sfc/en/2014/anti-fraud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r>
              <a:rPr b="1" lang="bg-BG" sz="17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2286000" y="501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"/>
          <p:cNvSpPr/>
          <p:nvPr/>
        </p:nvSpPr>
        <p:spPr>
          <a:xfrm>
            <a:off x="380880" y="4900680"/>
            <a:ext cx="6400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бенефициенти на проекти, финансирани от ЕСИ за предотвратяване на нередности/измами, достъпно на 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https://www.integritate.eu/A.N.I.-interactiv/Ghiduri.aspx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C:\Users\gergana.mihaylova\Desktop\text-guide.png"/>
          <p:cNvPicPr/>
          <p:nvPr/>
        </p:nvPicPr>
        <p:blipFill>
          <a:blip r:embed="rId2"/>
          <a:stretch/>
        </p:blipFill>
        <p:spPr>
          <a:xfrm>
            <a:off x="6415200" y="4603680"/>
            <a:ext cx="2587680" cy="1725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3"/>
          <a:stretch/>
        </p:blipFill>
        <p:spPr>
          <a:xfrm>
            <a:off x="392040" y="6229440"/>
            <a:ext cx="1131840" cy="514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149688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br>
              <a:rPr sz="2000"/>
            </a:br>
            <a:r>
              <a:rPr b="1" lang="bg-BG" sz="2200" spc="-1" strike="noStrike">
                <a:solidFill>
                  <a:srgbClr val="002060"/>
                </a:solidFill>
                <a:latin typeface="Arial Black"/>
                <a:ea typeface="Arial"/>
              </a:rPr>
              <a:t>Как процедираме</a:t>
            </a:r>
            <a:r>
              <a:rPr b="1" lang="ro-RO" sz="2200" spc="-1" strike="noStrike">
                <a:solidFill>
                  <a:srgbClr val="002060"/>
                </a:solidFill>
                <a:latin typeface="Arial Black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43280" y="5414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C:\Users\gergana.mihaylova\Desktop\code-of-conduct-img.jpg"/>
          <p:cNvPicPr/>
          <p:nvPr/>
        </p:nvPicPr>
        <p:blipFill>
          <a:blip r:embed="rId1"/>
          <a:stretch/>
        </p:blipFill>
        <p:spPr>
          <a:xfrm>
            <a:off x="6775560" y="2889360"/>
            <a:ext cx="2124000" cy="2460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425520" y="612792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76" name="Subtitle 2"/>
          <p:cNvSpPr/>
          <p:nvPr/>
        </p:nvSpPr>
        <p:spPr>
          <a:xfrm>
            <a:off x="372960" y="2701800"/>
            <a:ext cx="6132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 Black"/>
                <a:ea typeface="Arial"/>
              </a:rPr>
              <a:t>Препоръчително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вътрешен кодекс за поведение и политика на конфликт на интереси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  <a:ea typeface="Arial"/>
              </a:rPr>
              <a:t>по отношение на проекти, финансирани от европейски фондове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В противен случай - насоки на ЕС или други национални разпоредби (например: 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) или други национални разпоред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15800" y="2239560"/>
            <a:ext cx="84614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Arial"/>
              </a:rPr>
              <a:t>Сферата на обществените поръчки - най-податлива на из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екларации за целия персонал, участващ в процеса на възлагане на обществени поръчки - подписани, регистрирани и предоставени на структурите на Програмата (Приложение 17 в НИП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903320" y="544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6026040" y="3675240"/>
            <a:ext cx="1824120" cy="2444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01680" y="6124680"/>
            <a:ext cx="1222200" cy="555480"/>
          </a:xfrm>
          <a:prstGeom prst="rect">
            <a:avLst/>
          </a:prstGeom>
          <a:ln w="0">
            <a:noFill/>
          </a:ln>
        </p:spPr>
      </p:pic>
      <p:sp>
        <p:nvSpPr>
          <p:cNvPr id="583" name="TextBox 4"/>
          <p:cNvSpPr/>
          <p:nvPr/>
        </p:nvSpPr>
        <p:spPr>
          <a:xfrm>
            <a:off x="378000" y="3963960"/>
            <a:ext cx="519264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„4 очи” за всички документи, изготвени в съответствие с националното законодателство/изискванията на вътрешната програм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на ротация и произволен подбор при съставяне на комисията за оценка/подбор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646200" y="1420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1352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447840" y="613260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88" name="Content Placeholder 1"/>
          <p:cNvSpPr/>
          <p:nvPr/>
        </p:nvSpPr>
        <p:spPr>
          <a:xfrm>
            <a:off x="685800" y="9907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3366"/>
                </a:solidFill>
                <a:latin typeface="Trebuchet MS"/>
                <a:ea typeface="Arial"/>
              </a:rPr>
              <a:t>Нашият принцип</a:t>
            </a:r>
            <a:r>
              <a:rPr b="1" lang="ro-RO" sz="3000" spc="-1" strike="noStrike">
                <a:solidFill>
                  <a:srgbClr val="003366"/>
                </a:solidFill>
                <a:latin typeface="Trebuchet MS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Trebuchet MS"/>
                <a:ea typeface="Arial"/>
              </a:rPr>
              <a:t>Нулева толерантност към измами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  <a:ea typeface="Arial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2"/>
          <a:stretch/>
        </p:blipFill>
        <p:spPr>
          <a:xfrm>
            <a:off x="339840" y="212724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293760" y="4473720"/>
            <a:ext cx="60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  <a:ea typeface="Arial"/>
              </a:rPr>
              <a:t>Системата за предупреждение на уебсайта на Програмата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https://www.interregrobg.eu/ro/conta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3"/>
          <a:stretch/>
        </p:blipFill>
        <p:spPr>
          <a:xfrm>
            <a:off x="7083360" y="4384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2"/>
          <p:cNvSpPr/>
          <p:nvPr/>
        </p:nvSpPr>
        <p:spPr>
          <a:xfrm>
            <a:off x="6553080" y="6294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FD57-1605-410C-A307-D2CFAA60CD2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1522440" y="9050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Black"/>
              </a:rPr>
              <a:t>       </a:t>
            </a:r>
            <a:r>
              <a:rPr b="0" lang="bg-BG" sz="2800" spc="-1" strike="noStrike">
                <a:solidFill>
                  <a:srgbClr val="002060"/>
                </a:solidFill>
                <a:latin typeface="Arial Black"/>
              </a:rPr>
              <a:t>ДОКЛАД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C:\Users\gergana.mihaylova\Desktop\images.jpg"/>
          <p:cNvPicPr/>
          <p:nvPr/>
        </p:nvPicPr>
        <p:blipFill>
          <a:blip r:embed="rId1"/>
          <a:stretch/>
        </p:blipFill>
        <p:spPr>
          <a:xfrm>
            <a:off x="5764320" y="2797200"/>
            <a:ext cx="3074760" cy="28954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403200" y="601668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9"/>
          <p:cNvSpPr/>
          <p:nvPr/>
        </p:nvSpPr>
        <p:spPr>
          <a:xfrm>
            <a:off x="746280" y="643104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Trebuchet MS"/>
                <a:ea typeface="Arial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16080" y="178920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В случай на каквато и да е информация за съмнение за измама/нередност, свързана с Програмата, структурите за управление ще бъдат уведомени чрез системата за предупреждение: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румънските бенефициен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sesizari.proiecte@mlpda.ro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българските бенефициенти</a:t>
            </a: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Yana.Koleva@mrrb.government.bg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Rositsa.Draganova@mrrb.government.b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D.Petkova@mrrb.government.b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05892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10:07Z</dcterms:created>
  <dc:creator>eliza.pisica</dc:creator>
  <dc:description/>
  <dc:language>en-US</dc:language>
  <cp:lastModifiedBy>Evdokia NEDELCHEVA</cp:lastModifiedBy>
  <cp:lastPrinted>2020-06-30T12:14:09Z</cp:lastPrinted>
  <dcterms:modified xsi:type="dcterms:W3CDTF">2021-11-16T12:27:43Z</dcterms:modified>
  <cp:revision>569</cp:revision>
  <dc:subject/>
  <dc:title>Slide 1</dc:title>
</cp:coreProperties>
</file>